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2.jpeg" ContentType="image/jpeg"/>
  <Override PartName="/ppt/media/image21.jpeg" ContentType="image/jpeg"/>
  <Override PartName="/ppt/media/image19.png" ContentType="image/png"/>
  <Override PartName="/ppt/media/image20.jpeg" ContentType="image/jpeg"/>
  <Override PartName="/ppt/media/image16.png" ContentType="image/png"/>
  <Override PartName="/ppt/media/image15.png" ContentType="image/png"/>
  <Override PartName="/ppt/media/image27.jpeg" ContentType="image/jpeg"/>
  <Override PartName="/ppt/media/image33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7.jpeg" ContentType="image/jpeg"/>
  <Override PartName="/ppt/media/image13.png" ContentType="image/png"/>
  <Override PartName="/ppt/media/image10.gif" ContentType="image/gif"/>
  <Override PartName="/ppt/media/image30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8.jpeg" ContentType="image/jpeg"/>
  <Override PartName="/ppt/media/image29.jpeg" ContentType="image/jpeg"/>
  <Override PartName="/ppt/media/image37.gif" ContentType="image/gif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DEB9-DF43-4E66-925B-58D1063661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3D4A-275F-469F-8713-C6FC5C7E54A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31CB-D76F-4E00-A125-F80953FD1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997-7243-492D-91BC-07DEEDC14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7D22-C8BC-446D-9325-1A42A169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B0CF-CB33-4C93-BE30-EDA8DA2A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1989-47C1-47FF-9545-8ACFB7F03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7C00-6731-4BF3-8FF6-45E79805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88011-9887-4BFB-A13B-461B0A31A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343F6-F563-447C-8C94-E4920A8D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B92B-C73F-40C6-A92E-809EB3FD0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95B6-77B1-4E26-AEE8-7D452689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E0D2-4C06-42AC-B814-19BAF59E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0392-1EA0-48F4-93E0-EBEBCD2ED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2B40-FA46-4E24-A98A-40EF0316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A01DB-EA05-4408-B4C8-6808A3B6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9B093-0BE2-472F-9023-5C97A59CE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41408-4326-4643-AB9E-47F05E52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1CFF8-33D9-463D-9A86-35B743B50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23E5-4C7D-48D7-A7BD-DF64D6FC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A66D-7592-4D3F-A24C-F3CC26C6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437-FE56-4CF1-B3BC-D8891C6D8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3A12-A681-4532-AF0B-8A16DA725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4E1-BFE6-407C-B4E0-14E195F9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91C6-2705-45B2-A346-15F1F045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B5F0-13EA-466F-81BE-B39D37E88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bb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774A-1205-4293-9A1C-CC6B817F5DD6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bb8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1438f">
                  <a:alpha val="45098"/>
                </a:srgbClr>
              </a:gs>
              <a:gs pos="100000">
                <a:srgbClr val="f3520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712">
                  <a:alpha val="45098"/>
                </a:srgbClr>
              </a:gs>
              <a:gs pos="100000">
                <a:srgbClr val="a14ab3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b13f9a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c66bb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de6c3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f9b63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93c93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094B-90F6-41FF-B064-FC34DEF6AE8E}" type="slidenum">
              <a:rPr b="0" lang="ru-RU" sz="1200" spc="-1" strike="noStrike">
                <a:solidFill>
                  <a:srgbClr val="a93c93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jpeg"/><Relationship Id="rId9" Type="http://schemas.openxmlformats.org/officeDocument/2006/relationships/image" Target="../media/image21.jpeg"/><Relationship Id="rId10" Type="http://schemas.openxmlformats.org/officeDocument/2006/relationships/image" Target="../media/image22.jpeg"/><Relationship Id="rId11" Type="http://schemas.openxmlformats.org/officeDocument/2006/relationships/image" Target="../media/image20.jpeg"/><Relationship Id="rId12" Type="http://schemas.openxmlformats.org/officeDocument/2006/relationships/image" Target="../media/image23.jpeg"/><Relationship Id="rId1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image" Target="../media/image32.jpeg"/><Relationship Id="rId10" Type="http://schemas.openxmlformats.org/officeDocument/2006/relationships/image" Target="../media/image33.jpeg"/><Relationship Id="rId1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Заголовок 1" descr=""/>
          <p:cNvPicPr/>
          <p:nvPr/>
        </p:nvPicPr>
        <p:blipFill>
          <a:blip r:embed="rId1"/>
          <a:stretch/>
        </p:blipFill>
        <p:spPr>
          <a:xfrm>
            <a:off x="1457280" y="2530440"/>
            <a:ext cx="5473800" cy="2736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D:\Общие документы\КАРТИНКИ\КАРТИНКИ\1 (73).png"/>
          <p:cNvPicPr/>
          <p:nvPr/>
        </p:nvPicPr>
        <p:blipFill>
          <a:blip r:embed="rId2"/>
          <a:stretch/>
        </p:blipFill>
        <p:spPr>
          <a:xfrm>
            <a:off x="5857920" y="1000080"/>
            <a:ext cx="2874960" cy="1952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00040" y="3071880"/>
            <a:ext cx="7888320" cy="30002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b13f9a"/>
                </a:solidFill>
                <a:uFillTx/>
                <a:latin typeface="Calibri"/>
              </a:rPr>
              <a:t>Почему, говоря о правильном питании, мы вспоминаем о временах года?</a:t>
            </a:r>
            <a:endParaRPr b="0" lang="en-US" sz="36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Рацион питания</a:t>
            </a: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, в отличие от режима питания,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может и должен меняться</a:t>
            </a: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Причиной таких изменений могут быть </a:t>
            </a: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разные факторы, в том числе и 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сезонные изменения.</a:t>
            </a:r>
            <a:r>
              <a:rPr b="0" i="1" lang="ru-RU" sz="3600" spc="-1" strike="noStrike">
                <a:solidFill>
                  <a:srgbClr val="000000"/>
                </a:solidFill>
                <a:latin typeface="Constantia"/>
              </a:rPr>
              <a:t> Благодаря этому человек  сможет сохранить и укрепить своё здоровье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57120" y="357120"/>
            <a:ext cx="8329680" cy="1643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13f9a"/>
                </a:solidFill>
                <a:latin typeface="Calibri"/>
              </a:rPr>
              <a:t>Тема: «Что нужно есть </a:t>
            </a:r>
            <a:br>
              <a:rPr sz="5000"/>
            </a:br>
            <a:r>
              <a:rPr b="0" lang="ru-RU" sz="5000" spc="-1" strike="noStrike">
                <a:solidFill>
                  <a:srgbClr val="b13f9a"/>
                </a:solidFill>
                <a:latin typeface="Calibri"/>
              </a:rPr>
              <a:t>в разное время года?»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Задачи: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-выявить причины, вызывающие изменение в рационе питания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- сформировать представление об особенностях питания в летний и зимний периоды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Bar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2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356760" y="928800"/>
            <a:ext cx="830124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)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ыявить причины, вызывающие изменение в рационе питания, опираясь на жизненный опыт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2) Изучить учебную и дополнительную литературу с целью получения информаци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3)Провести презентацию полученной информации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4) Разработать проект рекомендаций по питанию в холодный и жаркий периоды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7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5) Приобретение практических навыков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b13f9a"/>
                </a:solidFill>
                <a:latin typeface="Calibri"/>
              </a:rPr>
              <a:t>Проект деятельности.</a:t>
            </a:r>
            <a:endParaRPr b="0" lang="en-US" sz="5400" spc="-1" strike="noStrike">
              <a:solidFill>
                <a:srgbClr val="b13f9a"/>
              </a:solidFill>
              <a:latin typeface="Calibri"/>
            </a:endParaRPr>
          </a:p>
        </p:txBody>
      </p:sp>
    </p:spTree>
  </p:cSld>
  <p:transition>
    <p:randomBa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13f9a"/>
                </a:solidFill>
                <a:latin typeface="Calibri"/>
              </a:rPr>
              <a:t>Причины, вызывающие изменение в рационе питания.</a:t>
            </a: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45520" indent="-245520">
              <a:spcBef>
                <a:spcPts val="11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1) Изменение температурного режима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45520" indent="-245520">
              <a:spcBef>
                <a:spcPts val="11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2) Изменение  доступного ассортимента продуктов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Bar dir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13f9a"/>
                </a:solidFill>
                <a:latin typeface="Calibri"/>
              </a:rPr>
              <a:t>Самостоятельная работа.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39" name="Picture 4" descr="C:\Documents and Settings\Даша\Мои документы\Мои рисунки\Мои сканированные изображения\2010-11 (ноя)\сканирование0015.jpg"/>
          <p:cNvPicPr/>
          <p:nvPr/>
        </p:nvPicPr>
        <p:blipFill>
          <a:blip r:embed="rId1"/>
          <a:stretch/>
        </p:blipFill>
        <p:spPr>
          <a:xfrm>
            <a:off x="357120" y="2214720"/>
            <a:ext cx="4500720" cy="3714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4" descr="C:\Users\1\Pictures\КАРТИНКИ\АНИМИРОВАННЫЕ КАРТИНКИ\1 (363).gif"/>
          <p:cNvPicPr/>
          <p:nvPr/>
        </p:nvPicPr>
        <p:blipFill>
          <a:blip r:embed="rId2"/>
          <a:stretch/>
        </p:blipFill>
        <p:spPr>
          <a:xfrm rot="21142800">
            <a:off x="5462280" y="3512880"/>
            <a:ext cx="3529080" cy="2574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b13f9a"/>
                </a:solidFill>
                <a:latin typeface="Calibri"/>
              </a:rPr>
              <a:t>Презентация информации. Защита проектов.</a:t>
            </a:r>
            <a:endParaRPr b="0" lang="en-US" sz="44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42" name="Picture 2" descr="C:\Documents and Settings\Даша\Мои документы\Мои рисунки\Мои сканированные изображения\2010-11 (ноя)\сканирование0019.jpg"/>
          <p:cNvPicPr/>
          <p:nvPr/>
        </p:nvPicPr>
        <p:blipFill>
          <a:blip r:embed="rId1"/>
          <a:stretch/>
        </p:blipFill>
        <p:spPr>
          <a:xfrm>
            <a:off x="1500120" y="2071800"/>
            <a:ext cx="5929560" cy="38574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13f9a"/>
                </a:solidFill>
                <a:latin typeface="Calibri"/>
              </a:rPr>
              <a:t>Практическое применение.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44" name="Picture 2" descr="C:\Documents and Settings\Даша\Мои документы\Мои рисунки\Мои сканированные изображения\2010-11 (ноя)\сканирование0018.jpg"/>
          <p:cNvPicPr/>
          <p:nvPr/>
        </p:nvPicPr>
        <p:blipFill>
          <a:blip r:embed="rId1"/>
          <a:stretch/>
        </p:blipFill>
        <p:spPr>
          <a:xfrm>
            <a:off x="2793960" y="2298600"/>
            <a:ext cx="3556080" cy="36626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C:\Documents and Settings\Даша\Мои документы\Мои рисунки\Мои сканированные изображения\2010-11 (ноя)\сканирование0018.jpg"/>
          <p:cNvPicPr/>
          <p:nvPr/>
        </p:nvPicPr>
        <p:blipFill>
          <a:blip r:embed="rId1"/>
          <a:stretch/>
        </p:blipFill>
        <p:spPr>
          <a:xfrm>
            <a:off x="928800" y="1785960"/>
            <a:ext cx="7358040" cy="4929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b13f9a"/>
                </a:solidFill>
                <a:latin typeface="Calibri"/>
              </a:rPr>
              <a:t>Зимний период.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47" name="Picture 2" descr="Картинка 137 из 6697"/>
          <p:cNvPicPr/>
          <p:nvPr/>
        </p:nvPicPr>
        <p:blipFill>
          <a:blip r:embed="rId2"/>
          <a:stretch/>
        </p:blipFill>
        <p:spPr>
          <a:xfrm rot="20703600">
            <a:off x="5495760" y="4079880"/>
            <a:ext cx="689040" cy="601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8" name="Picture 6" descr="Картинка 14 из 64326"/>
          <p:cNvPicPr/>
          <p:nvPr/>
        </p:nvPicPr>
        <p:blipFill>
          <a:blip r:embed="rId3"/>
          <a:stretch/>
        </p:blipFill>
        <p:spPr>
          <a:xfrm>
            <a:off x="2571840" y="3357720"/>
            <a:ext cx="571320" cy="617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9" name="Picture 2" descr="Картинка 14 из 1205"/>
          <p:cNvPicPr/>
          <p:nvPr/>
        </p:nvPicPr>
        <p:blipFill>
          <a:blip r:embed="rId4"/>
          <a:stretch/>
        </p:blipFill>
        <p:spPr>
          <a:xfrm>
            <a:off x="4857840" y="4071960"/>
            <a:ext cx="785880" cy="642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Картинка 36 из 138199"/>
          <p:cNvPicPr/>
          <p:nvPr/>
        </p:nvPicPr>
        <p:blipFill>
          <a:blip r:embed="rId5"/>
          <a:stretch/>
        </p:blipFill>
        <p:spPr>
          <a:xfrm>
            <a:off x="4214880" y="4000680"/>
            <a:ext cx="357120" cy="50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Картинка 1 из 1089097"/>
          <p:cNvPicPr/>
          <p:nvPr/>
        </p:nvPicPr>
        <p:blipFill>
          <a:blip r:embed="rId6"/>
          <a:stretch/>
        </p:blipFill>
        <p:spPr>
          <a:xfrm flipH="1" rot="623400">
            <a:off x="1757520" y="3421080"/>
            <a:ext cx="760320" cy="544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52" name="Picture 4" descr="Картинка 27 из 151272"/>
          <p:cNvPicPr/>
          <p:nvPr/>
        </p:nvPicPr>
        <p:blipFill>
          <a:blip r:embed="rId7"/>
          <a:stretch/>
        </p:blipFill>
        <p:spPr>
          <a:xfrm rot="330600">
            <a:off x="4094280" y="3601800"/>
            <a:ext cx="653760" cy="507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53" name=""/>
          <p:cNvSpPr txBox="1"/>
          <p:nvPr/>
        </p:nvSpPr>
        <p:spPr>
          <a:xfrm>
            <a:off x="4714920" y="4071960"/>
            <a:ext cx="71424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54" name="Picture 13" descr="C:\Documents and Settings\Даша\Мои документы\Мои рисунки\Мои сканированные изображения\2010-11 (ноя)\сканирование0025.jpg"/>
          <p:cNvPicPr/>
          <p:nvPr/>
        </p:nvPicPr>
        <p:blipFill>
          <a:blip r:embed="rId8"/>
          <a:stretch/>
        </p:blipFill>
        <p:spPr>
          <a:xfrm>
            <a:off x="3000240" y="3786120"/>
            <a:ext cx="509760" cy="5922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5" descr="C:\Documents and Settings\Даша\Мои документы\Мои рисунки\Мои сканированные изображения\2010-11 (ноя)\сканирование0029.jpg"/>
          <p:cNvPicPr/>
          <p:nvPr/>
        </p:nvPicPr>
        <p:blipFill>
          <a:blip r:embed="rId9"/>
          <a:stretch/>
        </p:blipFill>
        <p:spPr>
          <a:xfrm>
            <a:off x="4572000" y="4071960"/>
            <a:ext cx="428760" cy="500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6" descr="C:\Documents and Settings\Даша\Мои документы\Мои рисунки\Мои сканированные изображения\2010-11 (ноя)\сканирование0027.jpg"/>
          <p:cNvPicPr/>
          <p:nvPr/>
        </p:nvPicPr>
        <p:blipFill>
          <a:blip r:embed="rId10"/>
          <a:stretch/>
        </p:blipFill>
        <p:spPr>
          <a:xfrm>
            <a:off x="3571920" y="3857760"/>
            <a:ext cx="571320" cy="714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C:\Documents and Settings\Даша\Мои документы\Мои рисунки\Мои сканированные изображения\2010-11 (ноя)\сканирование0025.jpg"/>
          <p:cNvPicPr/>
          <p:nvPr/>
        </p:nvPicPr>
        <p:blipFill>
          <a:blip r:embed="rId11"/>
          <a:stretch/>
        </p:blipFill>
        <p:spPr>
          <a:xfrm>
            <a:off x="3152880" y="3938760"/>
            <a:ext cx="509400" cy="5918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C:\Documents and Settings\Даша\Мои документы\Мои рисунки\Мои сканированные изображения\2010-11 (ноя)\сканирование0024.jpg"/>
          <p:cNvPicPr/>
          <p:nvPr/>
        </p:nvPicPr>
        <p:blipFill>
          <a:blip r:embed="rId12"/>
          <a:stretch/>
        </p:blipFill>
        <p:spPr>
          <a:xfrm>
            <a:off x="2214720" y="3786120"/>
            <a:ext cx="755640" cy="7416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5" descr="C:\Documents and Settings\Даша\Мои документы\Мои рисунки\Мои сканированные изображения\2010-11 (ноя)\сканирование0018.jpg"/>
          <p:cNvPicPr/>
          <p:nvPr/>
        </p:nvPicPr>
        <p:blipFill>
          <a:blip r:embed="rId1"/>
          <a:stretch/>
        </p:blipFill>
        <p:spPr>
          <a:xfrm>
            <a:off x="928800" y="1928880"/>
            <a:ext cx="7215120" cy="4689360"/>
          </a:xfrm>
          <a:prstGeom prst="rect">
            <a:avLst/>
          </a:prstGeom>
          <a:ln w="0">
            <a:noFill/>
          </a:ln>
        </p:spPr>
      </p:pic>
      <p:pic>
        <p:nvPicPr>
          <p:cNvPr id="160" name="Заголовок 1" descr=""/>
          <p:cNvPicPr/>
          <p:nvPr/>
        </p:nvPicPr>
        <p:blipFill>
          <a:blip r:embed="rId2"/>
          <a:stretch/>
        </p:blipFill>
        <p:spPr>
          <a:xfrm>
            <a:off x="420840" y="706320"/>
            <a:ext cx="8321400" cy="1158840"/>
          </a:xfrm>
          <a:prstGeom prst="rect">
            <a:avLst/>
          </a:prstGeom>
          <a:ln w="0">
            <a:noFill/>
          </a:ln>
        </p:spPr>
      </p:pic>
      <p:sp>
        <p:nvSpPr>
          <p:cNvPr id="161" name="Содержимое 18"/>
          <p:cNvSpPr/>
          <p:nvPr/>
        </p:nvSpPr>
        <p:spPr>
          <a:xfrm flipV="1">
            <a:off x="3643200" y="6506280"/>
            <a:ext cx="519588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одержимое 18"/>
          <p:cNvSpPr/>
          <p:nvPr/>
        </p:nvSpPr>
        <p:spPr>
          <a:xfrm>
            <a:off x="4800600" y="2073240"/>
            <a:ext cx="4038480" cy="44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" descr="Картинка 14 из 1205"/>
          <p:cNvPicPr/>
          <p:nvPr/>
        </p:nvPicPr>
        <p:blipFill>
          <a:blip r:embed="rId3"/>
          <a:stretch/>
        </p:blipFill>
        <p:spPr>
          <a:xfrm>
            <a:off x="2071800" y="3929040"/>
            <a:ext cx="928440" cy="7142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6" descr="C:\Documents and Settings\Даша\Мои документы\Мои рисунки\Мои сканированные изображения\2010-11 (ноя)\сканирование0025.jpg"/>
          <p:cNvPicPr/>
          <p:nvPr/>
        </p:nvPicPr>
        <p:blipFill>
          <a:blip r:embed="rId4"/>
          <a:stretch/>
        </p:blipFill>
        <p:spPr>
          <a:xfrm>
            <a:off x="2714760" y="3929040"/>
            <a:ext cx="428400" cy="6429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7" descr="C:\Documents and Settings\Даша\Мои документы\Мои рисунки\Мои сканированные изображения\2010-11 (ноя)\сканирование0027.jpg"/>
          <p:cNvPicPr/>
          <p:nvPr/>
        </p:nvPicPr>
        <p:blipFill>
          <a:blip r:embed="rId5"/>
          <a:stretch/>
        </p:blipFill>
        <p:spPr>
          <a:xfrm>
            <a:off x="3714840" y="3929040"/>
            <a:ext cx="428400" cy="6112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1" descr="C:\Documents and Settings\Даша\Мои документы\Мои рисунки\Мои сканированные изображения\2010-11 (ноя)\сканирование0031.jpg"/>
          <p:cNvPicPr/>
          <p:nvPr/>
        </p:nvPicPr>
        <p:blipFill>
          <a:blip r:embed="rId6"/>
          <a:stretch/>
        </p:blipFill>
        <p:spPr>
          <a:xfrm>
            <a:off x="4214880" y="3643200"/>
            <a:ext cx="515880" cy="9018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2" descr="C:\Documents and Settings\Даша\Мои документы\Мои рисунки\Мои сканированные изображения\2010-11 (ноя)\сканирование0029.jpg"/>
          <p:cNvPicPr/>
          <p:nvPr/>
        </p:nvPicPr>
        <p:blipFill>
          <a:blip r:embed="rId7"/>
          <a:stretch/>
        </p:blipFill>
        <p:spPr>
          <a:xfrm>
            <a:off x="4714920" y="4000680"/>
            <a:ext cx="571320" cy="5648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C:\Documents and Settings\Даша\Мои документы\Мои рисунки\Мои сканированные изображения\2010-11 (ноя)\сканирование0021.jpg"/>
          <p:cNvPicPr/>
          <p:nvPr/>
        </p:nvPicPr>
        <p:blipFill>
          <a:blip r:embed="rId8"/>
          <a:stretch/>
        </p:blipFill>
        <p:spPr>
          <a:xfrm>
            <a:off x="5429160" y="4071960"/>
            <a:ext cx="500040" cy="539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5" descr="C:\Documents and Settings\Даша\Мои документы\Мои рисунки\Мои сканированные изображения\2010-11 (ноя)\сканирование0022.jpg"/>
          <p:cNvPicPr/>
          <p:nvPr/>
        </p:nvPicPr>
        <p:blipFill>
          <a:blip r:embed="rId9"/>
          <a:stretch/>
        </p:blipFill>
        <p:spPr>
          <a:xfrm rot="10959600">
            <a:off x="3227040" y="4082400"/>
            <a:ext cx="484200" cy="539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26" descr="C:\Documents and Settings\Даша\Мои документы\Мои рисунки\Мои сканированные изображения\2010-11 (ноя)\сканирование0023.jpg"/>
          <p:cNvPicPr/>
          <p:nvPr/>
        </p:nvPicPr>
        <p:blipFill>
          <a:blip r:embed="rId10"/>
          <a:stretch/>
        </p:blipFill>
        <p:spPr>
          <a:xfrm>
            <a:off x="5857920" y="4143240"/>
            <a:ext cx="285840" cy="3574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13f9a"/>
                </a:solidFill>
                <a:latin typeface="Calibri"/>
              </a:rPr>
              <a:t>Вывод.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99680" y="1214280"/>
            <a:ext cx="82580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 Рацион питания должен меняться в зависимости от изменения температурного режима, доступного ассортимента продукт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 В холодное время года рекомендуется употребление высококалорийных продуктов, блюд, горячей пищ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 В летнем меню преимущество принадлежит низкокалорийным блюдам, увеличивается количество холодных блюд, объём потребляемой жидкости (количество питья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ажно! Организм нуждается во всех питательных веществах и качественное соотношение белков, жиров и углеводов должно сохранятьс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3" name="Содержимое 4" descr=""/>
          <p:cNvPicPr/>
          <p:nvPr/>
        </p:nvPicPr>
        <p:blipFill>
          <a:blip r:embed="rId1"/>
          <a:stretch/>
        </p:blipFill>
        <p:spPr>
          <a:xfrm>
            <a:off x="4645080" y="1914480"/>
            <a:ext cx="4048200" cy="44434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2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13f9a"/>
                </a:solidFill>
                <a:latin typeface="Calibri"/>
              </a:rPr>
              <a:t>Отгадайте загадку.</a:t>
            </a:r>
            <a:endParaRPr b="0" lang="en-US" sz="6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594720" indent="-228600">
              <a:spcBef>
                <a:spcPts val="1151"/>
              </a:spcBef>
              <a:buClr>
                <a:srgbClr val="b83d6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Constantia"/>
              </a:rPr>
              <a:t>Утром мы во двор идем - </a:t>
            </a: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Constantia"/>
              </a:rPr>
              <a:t>Листья сыплются дождем, </a:t>
            </a: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Constantia"/>
              </a:rPr>
              <a:t>Под ногами шелестят </a:t>
            </a: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Constantia"/>
              </a:rPr>
              <a:t>И летят, летят, летят... </a:t>
            </a:r>
            <a:br>
              <a:rPr sz="4600"/>
            </a:br>
            <a:r>
              <a:rPr b="0" lang="ru-RU" sz="4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Схема 7" descr=""/>
          <p:cNvPicPr/>
          <p:nvPr/>
        </p:nvPicPr>
        <p:blipFill>
          <a:blip r:embed="rId1"/>
          <a:stretch/>
        </p:blipFill>
        <p:spPr>
          <a:xfrm>
            <a:off x="115920" y="1066680"/>
            <a:ext cx="4737240" cy="4724640"/>
          </a:xfrm>
          <a:prstGeom prst="rect">
            <a:avLst/>
          </a:prstGeom>
          <a:ln w="0">
            <a:noFill/>
          </a:ln>
        </p:spPr>
      </p:pic>
      <p:pic>
        <p:nvPicPr>
          <p:cNvPr id="175" name="Схема 8" descr=""/>
          <p:cNvPicPr/>
          <p:nvPr/>
        </p:nvPicPr>
        <p:blipFill>
          <a:blip r:embed="rId2"/>
          <a:stretch/>
        </p:blipFill>
        <p:spPr>
          <a:xfrm>
            <a:off x="4334040" y="993600"/>
            <a:ext cx="4590720" cy="494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D:\Общие документы\КАРТИНКИ\АНИМИРОВАННЫЕ КАРТИНКИ\1 (42).gif"/>
          <p:cNvPicPr/>
          <p:nvPr/>
        </p:nvPicPr>
        <p:blipFill>
          <a:blip r:embed="rId3"/>
          <a:stretch/>
        </p:blipFill>
        <p:spPr>
          <a:xfrm>
            <a:off x="5429160" y="5226120"/>
            <a:ext cx="3167280" cy="1108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785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Calibri"/>
              </a:rPr>
              <a:t>осень</a:t>
            </a:r>
            <a:endParaRPr b="0" lang="en-US" sz="8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357200" y="1785960"/>
            <a:ext cx="6640560" cy="43894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13f9a"/>
                </a:solidFill>
                <a:latin typeface="Calibri"/>
              </a:rPr>
              <a:t>Отгадайте загадку.</a:t>
            </a:r>
            <a:endParaRPr b="0" lang="en-US" sz="6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Запорошила дорожки,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Разукрасила окошки,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Радость детям подарила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И на санках прокатила.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Calibri"/>
              </a:rPr>
              <a:t>зима</a:t>
            </a:r>
            <a:endParaRPr b="0" lang="en-US" sz="8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928800" y="1785960"/>
            <a:ext cx="7000920" cy="43894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13f9a"/>
                </a:solidFill>
                <a:latin typeface="Calibri"/>
              </a:rPr>
              <a:t>Отгадайте загадку.</a:t>
            </a:r>
            <a:endParaRPr b="0" lang="en-US" sz="6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26440" indent="-226440">
              <a:spcBef>
                <a:spcPts val="1199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Она приходит с ласкою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И со своею сказкою.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Волшебной палочкой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Взмахнет,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В лесу подснежник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Расцветет. 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b13f9a"/>
                </a:solidFill>
                <a:latin typeface="Calibri"/>
              </a:rPr>
              <a:t>весна</a:t>
            </a:r>
            <a:endParaRPr b="0" lang="en-US" sz="8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071720" y="1935000"/>
            <a:ext cx="6643440" cy="43894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b13f9a"/>
                </a:solidFill>
                <a:latin typeface="Calibri"/>
              </a:rPr>
              <a:t>Отгадайте загадку.</a:t>
            </a:r>
            <a:endParaRPr b="0" lang="en-US" sz="5000" spc="-1" strike="noStrike">
              <a:solidFill>
                <a:srgbClr val="b13f9a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e6c3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Солнце печёт, липа цветёт.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Рожь поспевает, когда это бывает? 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b13f9a"/>
                </a:solidFill>
                <a:latin typeface="Calibri"/>
              </a:rPr>
              <a:t>лето</a:t>
            </a:r>
            <a:endParaRPr b="0" lang="en-US" sz="6000" spc="-1" strike="noStrike">
              <a:solidFill>
                <a:srgbClr val="b13f9a"/>
              </a:solidFill>
              <a:latin typeface="Calibri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214280" y="2071800"/>
            <a:ext cx="6858000" cy="42861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Учитель</cp:lastModifiedBy>
  <dcterms:modified xsi:type="dcterms:W3CDTF">2013-11-08T05:33:27Z</dcterms:modified>
  <cp:revision>326</cp:revision>
  <dc:subject/>
  <dc:title>Мир вокруг нас</dc:title>
</cp:coreProperties>
</file>