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4217-9225-40CF-A4D1-E7FE514D31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96FA-6561-4B7A-8F12-FEDF667FFA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F9F-CE7D-4907-8FFA-FAAB5ABB7F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EB1-BF88-4BD7-9C5D-022F6FF4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A66-A6A3-4268-8D06-B3266C55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BF9-CD53-48D6-BF09-C6543C4E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49E-371C-48E0-BE42-BC69CCEB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BBB1-4F4B-4A8B-A7F1-087AD6CA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6FCC-29C5-427F-80AD-FC3EEDB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B071-0DE8-47E1-8B1C-D6A220D2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DEF3-B084-4AD3-B40E-6149C151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F5D5-FA1E-41E6-B59B-6BA2B0FF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E736-852F-45A0-A1E4-FAD78AFB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98E3-36F4-4460-A57F-1109EE03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8E4-7272-4E81-A568-3D2D59D6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ED9F-265A-4AEE-A713-6DA7664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17B5-1E39-4425-BEA9-38F745C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F8B5-4EF0-433C-A1B1-274EB2A7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817F-9851-4905-8022-3C93E25A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F2BE-EE2D-41F7-8722-DB49C0E3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BF4E7-DC11-4024-BDF8-F2D021DB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78A42-314E-4839-8786-C345B813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4D16A-ABD3-4E86-9871-30201FC1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470D7-39A9-46D2-B565-4D05B283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95524-8C5B-4893-A8DE-C0982F5D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13B-B705-49F6-B6B0-B066F283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1EEDF-E586-40EC-A85B-E20E6ABF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DB3CA-4E81-4560-9A0D-6EE06C78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9D741-28B0-4572-A1FC-07FA51AC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85C19-7A43-4753-A462-E728702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C4F0A-B17B-4816-A782-B0438B0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2C4D0-80F2-4D85-AF48-E303B70C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DCFD1-A3CD-4E74-966C-1B0EBAC3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218-40FD-483D-8693-24718E58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5A1-C10D-40D8-A341-0A299C03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41A-7619-42A1-8F65-16093C0D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99C-4B77-45FB-8508-4624A33F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021-7328-457D-9C21-AFC6F2E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3C4-6878-4CAE-A7E0-E9B0B502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FDC1-A41B-4B3C-8E6F-E5A08551C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620D-091C-47C2-94A5-391C0F228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E57F-3A94-45AB-A566-F21F928C72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32" name="fort boyard.mp3" descr=""/>
          <p:cNvPicPr/>
          <p:nvPr/>
        </p:nvPicPr>
        <p:blipFill>
          <a:blip r:embed="rId2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ПЛАН: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задач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сравн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числовые вы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ртежи и изме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мину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л (вход в сокровищниц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fot2b"/>
          <p:cNvPicPr/>
          <p:nvPr/>
        </p:nvPicPr>
        <p:blipFill>
          <a:blip r:embed="rId1"/>
          <a:stretch/>
        </p:blipFill>
        <p:spPr>
          <a:xfrm>
            <a:off x="5867280" y="2055960"/>
            <a:ext cx="30258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Блиц - турнир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Рисунок 3" descr="http://go.mail.ru/imgpreview?key=http%3A//copypast.ru/foto8/4070/tarantul.jpg&amp;mb=imgdb_preview_490&amp;q=90&amp;w=134"/>
          <p:cNvPicPr/>
          <p:nvPr/>
        </p:nvPicPr>
        <p:blipFill>
          <a:blip r:embed="rId1"/>
          <a:stretch/>
        </p:blipFill>
        <p:spPr>
          <a:xfrm>
            <a:off x="4067280" y="436572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http://go.mail.ru/imgpreview?key=http%3A//copypast.ru/foto8/4070/tarantul.jpg&amp;mb=imgdb_preview_490&amp;q=90&amp;w=134"/>
          <p:cNvPicPr/>
          <p:nvPr/>
        </p:nvPicPr>
        <p:blipFill>
          <a:blip r:embed="rId2"/>
          <a:stretch/>
        </p:blipFill>
        <p:spPr>
          <a:xfrm>
            <a:off x="539640" y="1341360"/>
            <a:ext cx="1276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http://go.mail.ru/imgpreview?key=http%3A//copypast.ru/foto8/4070/tarantul.jpg&amp;mb=imgdb_preview_490&amp;q=90&amp;w=134"/>
          <p:cNvPicPr/>
          <p:nvPr/>
        </p:nvPicPr>
        <p:blipFill>
          <a:blip r:embed="rId3"/>
          <a:stretch/>
        </p:blipFill>
        <p:spPr>
          <a:xfrm>
            <a:off x="6804000" y="443700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http://go.mail.ru/imgpreview?key=http%3A//copypast.ru/foto8/4070/tarantul.jpg&amp;mb=imgdb_preview_490&amp;q=90&amp;w=134"/>
          <p:cNvPicPr/>
          <p:nvPr/>
        </p:nvPicPr>
        <p:blipFill>
          <a:blip r:embed="rId4"/>
          <a:stretch/>
        </p:blipFill>
        <p:spPr>
          <a:xfrm>
            <a:off x="1258920" y="436572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http://go.mail.ru/imgpreview?key=http%3A//copypast.ru/foto8/4070/tarantul.jpg&amp;mb=imgdb_preview_490&amp;q=90&amp;w=134"/>
          <p:cNvPicPr/>
          <p:nvPr/>
        </p:nvPicPr>
        <p:blipFill>
          <a:blip r:embed="rId5"/>
          <a:stretch/>
        </p:blipFill>
        <p:spPr>
          <a:xfrm>
            <a:off x="2050920" y="1125360"/>
            <a:ext cx="1276560" cy="9525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http://go.mail.ru/imgpreview?key=http%3A//copypast.ru/foto8/4070/tarantul.jpg&amp;mb=imgdb_preview_490&amp;q=90&amp;w=134"/>
          <p:cNvPicPr/>
          <p:nvPr/>
        </p:nvPicPr>
        <p:blipFill>
          <a:blip r:embed="rId6"/>
          <a:stretch/>
        </p:blipFill>
        <p:spPr>
          <a:xfrm>
            <a:off x="6875640" y="126828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http://go.mail.ru/imgpreview?key=http%3A//copypast.ru/foto8/4070/tarantul.jpg&amp;mb=imgdb_preview_490&amp;q=90&amp;w=134"/>
          <p:cNvPicPr/>
          <p:nvPr/>
        </p:nvPicPr>
        <p:blipFill>
          <a:blip r:embed="rId7"/>
          <a:stretch/>
        </p:blipFill>
        <p:spPr>
          <a:xfrm>
            <a:off x="2700360" y="386064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http://go.mail.ru/imgpreview?key=http%3A//copypast.ru/foto8/4070/tarantul.jpg&amp;mb=imgdb_preview_490&amp;q=90&amp;w=134"/>
          <p:cNvPicPr/>
          <p:nvPr/>
        </p:nvPicPr>
        <p:blipFill>
          <a:blip r:embed="rId8"/>
          <a:stretch/>
        </p:blipFill>
        <p:spPr>
          <a:xfrm>
            <a:off x="2771640" y="4941720"/>
            <a:ext cx="1276560" cy="9525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1" descr="http://go.mail.ru/imgpreview?key=http%3A//copypast.ru/foto8/4070/tarantul.jpg&amp;mb=imgdb_preview_490&amp;q=90&amp;w=134"/>
          <p:cNvPicPr/>
          <p:nvPr/>
        </p:nvPicPr>
        <p:blipFill>
          <a:blip r:embed="rId9"/>
          <a:stretch/>
        </p:blipFill>
        <p:spPr>
          <a:xfrm>
            <a:off x="5435640" y="494172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2" descr="http://go.mail.ru/imgpreview?key=http%3A//copypast.ru/foto8/4070/tarantul.jpg&amp;mb=imgdb_preview_490&amp;q=90&amp;w=134"/>
          <p:cNvPicPr/>
          <p:nvPr/>
        </p:nvPicPr>
        <p:blipFill>
          <a:blip r:embed="rId10"/>
          <a:stretch/>
        </p:blipFill>
        <p:spPr>
          <a:xfrm>
            <a:off x="5003640" y="1052640"/>
            <a:ext cx="1276560" cy="9522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3" descr="http://go.mail.ru/imgpreview?key=http%3A//copypast.ru/foto8/4070/tarantul.jpg&amp;mb=imgdb_preview_490&amp;q=90&amp;w=134"/>
          <p:cNvPicPr/>
          <p:nvPr/>
        </p:nvPicPr>
        <p:blipFill>
          <a:blip r:embed="rId11"/>
          <a:stretch/>
        </p:blipFill>
        <p:spPr>
          <a:xfrm>
            <a:off x="5364000" y="3860640"/>
            <a:ext cx="127656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4" descr="http://go.mail.ru/imgpreview?key=http%3A//copypast.ru/foto8/4070/tarantul.jpg&amp;mb=imgdb_preview_490&amp;q=90&amp;w=134"/>
          <p:cNvPicPr/>
          <p:nvPr/>
        </p:nvPicPr>
        <p:blipFill>
          <a:blip r:embed="rId12"/>
          <a:stretch/>
        </p:blipFill>
        <p:spPr>
          <a:xfrm>
            <a:off x="3635280" y="1700280"/>
            <a:ext cx="1276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верь себя.(Блиц - турнир №1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4+5=9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10-2=8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4+3=7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7-3=4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10-7=3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верь себя.(Блиц - турнир №2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2+2=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8-6=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5+4=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6-2=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10-1=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9640" y="1268280"/>
          <a:ext cx="8229600" cy="5256360"/>
        </p:xfrm>
        <a:graphic>
          <a:graphicData uri="http://schemas.openxmlformats.org/drawingml/2006/table">
            <a:tbl>
              <a:tblPr/>
              <a:tblGrid>
                <a:gridCol w="2027520"/>
                <a:gridCol w="1439640"/>
                <a:gridCol w="1943280"/>
                <a:gridCol w="1225440"/>
                <a:gridCol w="1593720"/>
              </a:tblGrid>
              <a:tr h="1976040"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+4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+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 5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-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 4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- 4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+4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+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 5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-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 4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- 4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60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+4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+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 5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-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 4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- 4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8" name="Рисунок 3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1"/>
          <a:stretch/>
        </p:blipFill>
        <p:spPr>
          <a:xfrm>
            <a:off x="2124000" y="5732640"/>
            <a:ext cx="1276560" cy="9522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2"/>
          <a:stretch/>
        </p:blipFill>
        <p:spPr>
          <a:xfrm>
            <a:off x="7596360" y="364500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3"/>
          <a:stretch/>
        </p:blipFill>
        <p:spPr>
          <a:xfrm>
            <a:off x="6443640" y="155736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4"/>
          <a:stretch/>
        </p:blipFill>
        <p:spPr>
          <a:xfrm>
            <a:off x="684360" y="18900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5"/>
          <a:stretch/>
        </p:blipFill>
        <p:spPr>
          <a:xfrm>
            <a:off x="7596360" y="26028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8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6"/>
          <a:stretch/>
        </p:blipFill>
        <p:spPr>
          <a:xfrm>
            <a:off x="826920" y="3716280"/>
            <a:ext cx="1276560" cy="9525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9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7"/>
          <a:stretch/>
        </p:blipFill>
        <p:spPr>
          <a:xfrm>
            <a:off x="7740720" y="249228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0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8"/>
          <a:stretch/>
        </p:blipFill>
        <p:spPr>
          <a:xfrm>
            <a:off x="395280" y="537372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1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9"/>
          <a:stretch/>
        </p:blipFill>
        <p:spPr>
          <a:xfrm>
            <a:off x="5796000" y="18900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2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10"/>
          <a:stretch/>
        </p:blipFill>
        <p:spPr>
          <a:xfrm>
            <a:off x="4284720" y="1413000"/>
            <a:ext cx="1276200" cy="9522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3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11"/>
          <a:stretch/>
        </p:blipFill>
        <p:spPr>
          <a:xfrm>
            <a:off x="2627280" y="3860640"/>
            <a:ext cx="1276560" cy="9525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http://go.mail.ru/imgpreview?key=http%3A//seculife.ru/wp-content/uploads/2011/09/%25D0%25A1%25D0%25BA%25D0%25BE%25D1%2580%25D0%25BF%25D0%25B8%25D0%25BE%25D0%25BD.jpg&amp;mb=imgdb_preview_273&amp;q=90&amp;w=134"/>
          <p:cNvPicPr/>
          <p:nvPr/>
        </p:nvPicPr>
        <p:blipFill>
          <a:blip r:embed="rId12"/>
          <a:stretch/>
        </p:blipFill>
        <p:spPr>
          <a:xfrm>
            <a:off x="7524720" y="4797360"/>
            <a:ext cx="1276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действия по схем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54644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1942920"/>
                <a:gridCol w="1225800"/>
                <a:gridCol w="1593720"/>
              </a:tblGrid>
              <a:tr h="154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0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Овал 3"/>
          <p:cNvSpPr/>
          <p:nvPr/>
        </p:nvSpPr>
        <p:spPr>
          <a:xfrm>
            <a:off x="826920" y="1916280"/>
            <a:ext cx="865440" cy="79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Овал 4"/>
          <p:cNvSpPr/>
          <p:nvPr/>
        </p:nvSpPr>
        <p:spPr>
          <a:xfrm>
            <a:off x="2411280" y="1989000"/>
            <a:ext cx="843120" cy="792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Овал 5"/>
          <p:cNvSpPr/>
          <p:nvPr/>
        </p:nvSpPr>
        <p:spPr>
          <a:xfrm>
            <a:off x="4427640" y="1916280"/>
            <a:ext cx="865080" cy="865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Стрелка вправо 10"/>
          <p:cNvSpPr/>
          <p:nvPr/>
        </p:nvSpPr>
        <p:spPr>
          <a:xfrm>
            <a:off x="1692360" y="2205000"/>
            <a:ext cx="718920" cy="4842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Стрелка вправо 12"/>
          <p:cNvSpPr/>
          <p:nvPr/>
        </p:nvSpPr>
        <p:spPr>
          <a:xfrm>
            <a:off x="3276720" y="2133720"/>
            <a:ext cx="1122120" cy="57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Овал 13"/>
          <p:cNvSpPr/>
          <p:nvPr/>
        </p:nvSpPr>
        <p:spPr>
          <a:xfrm>
            <a:off x="2771640" y="3500280"/>
            <a:ext cx="720720" cy="649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Овал 14"/>
          <p:cNvSpPr/>
          <p:nvPr/>
        </p:nvSpPr>
        <p:spPr>
          <a:xfrm>
            <a:off x="4356000" y="3429000"/>
            <a:ext cx="720720" cy="720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Овал 15"/>
          <p:cNvSpPr/>
          <p:nvPr/>
        </p:nvSpPr>
        <p:spPr>
          <a:xfrm>
            <a:off x="5940360" y="3429000"/>
            <a:ext cx="770040" cy="79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Овал 16"/>
          <p:cNvSpPr/>
          <p:nvPr/>
        </p:nvSpPr>
        <p:spPr>
          <a:xfrm>
            <a:off x="4356000" y="4941720"/>
            <a:ext cx="914400" cy="1008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Овал 17"/>
          <p:cNvSpPr/>
          <p:nvPr/>
        </p:nvSpPr>
        <p:spPr>
          <a:xfrm>
            <a:off x="5940360" y="5013360"/>
            <a:ext cx="914400" cy="936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Овал 18"/>
          <p:cNvSpPr/>
          <p:nvPr/>
        </p:nvSpPr>
        <p:spPr>
          <a:xfrm>
            <a:off x="7524720" y="5084640"/>
            <a:ext cx="719280" cy="792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Стрелка вправо 19"/>
          <p:cNvSpPr/>
          <p:nvPr/>
        </p:nvSpPr>
        <p:spPr>
          <a:xfrm>
            <a:off x="3492360" y="3645000"/>
            <a:ext cx="8636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Стрелка вправо 20"/>
          <p:cNvSpPr/>
          <p:nvPr/>
        </p:nvSpPr>
        <p:spPr>
          <a:xfrm>
            <a:off x="5219640" y="3429000"/>
            <a:ext cx="647640" cy="720720"/>
          </a:xfrm>
          <a:prstGeom prst="rightArrow">
            <a:avLst>
              <a:gd name="adj1" fmla="val 50000"/>
              <a:gd name="adj2" fmla="val 5106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Стрелка вправо 21"/>
          <p:cNvSpPr/>
          <p:nvPr/>
        </p:nvSpPr>
        <p:spPr>
          <a:xfrm>
            <a:off x="5292720" y="5300640"/>
            <a:ext cx="719280" cy="360360"/>
          </a:xfrm>
          <a:prstGeom prst="rightArrow">
            <a:avLst>
              <a:gd name="adj1" fmla="val 76954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Стрелка вправо 22"/>
          <p:cNvSpPr/>
          <p:nvPr/>
        </p:nvSpPr>
        <p:spPr>
          <a:xfrm>
            <a:off x="6948360" y="5157720"/>
            <a:ext cx="576360" cy="574920"/>
          </a:xfrm>
          <a:prstGeom prst="rightArrow">
            <a:avLst>
              <a:gd name="adj1" fmla="val 50000"/>
              <a:gd name="adj2" fmla="val 4394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Рисунок 23" descr="http://mirfactov.com/wp-content/uploads/3173-620x423.jpg"/>
          <p:cNvPicPr/>
          <p:nvPr/>
        </p:nvPicPr>
        <p:blipFill>
          <a:blip r:embed="rId1"/>
          <a:stretch/>
        </p:blipFill>
        <p:spPr>
          <a:xfrm>
            <a:off x="5940360" y="1268280"/>
            <a:ext cx="2735280" cy="18003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24" descr="http://mirfactov.com/wp-content/uploads/3173-620x423.jpg"/>
          <p:cNvPicPr/>
          <p:nvPr/>
        </p:nvPicPr>
        <p:blipFill>
          <a:blip r:embed="rId2"/>
          <a:stretch/>
        </p:blipFill>
        <p:spPr>
          <a:xfrm>
            <a:off x="250920" y="4653000"/>
            <a:ext cx="3313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600200"/>
          <a:ext cx="8229600" cy="4838760"/>
        </p:xfrm>
        <a:graphic>
          <a:graphicData uri="http://schemas.openxmlformats.org/drawingml/2006/table">
            <a:tbl>
              <a:tblPr/>
              <a:tblGrid>
                <a:gridCol w="2027160"/>
                <a:gridCol w="1440000"/>
                <a:gridCol w="1942920"/>
                <a:gridCol w="1225800"/>
                <a:gridCol w="1593720"/>
              </a:tblGrid>
              <a:tr h="1854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4№№№№№У566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 222 с.8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№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2 с.8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2 с.8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17" descr="http://go.mail.ru/imgpreview?key=http%3A//katyaburg.ru/sites/default/files/pictures/zabavnie%5Fjivotnie/zmei%5Fkobra%5Ffoto%5F01.jpg&amp;mb=imgdb_preview_133&amp;q=90&amp;w=113"/>
          <p:cNvPicPr/>
          <p:nvPr/>
        </p:nvPicPr>
        <p:blipFill>
          <a:blip r:embed="rId1"/>
          <a:stretch/>
        </p:blipFill>
        <p:spPr>
          <a:xfrm>
            <a:off x="250920" y="1413000"/>
            <a:ext cx="1076400" cy="952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http://go.mail.ru/imgpreview?key=http%3A//poxe.ru/uploads/posts/2010-07/1278490516%5Frsrsrrs-ryerrsr.jpg&amp;mb=imgdb_preview_293&amp;q=90&amp;w=130"/>
          <p:cNvPicPr/>
          <p:nvPr/>
        </p:nvPicPr>
        <p:blipFill>
          <a:blip r:embed="rId2"/>
          <a:stretch/>
        </p:blipFill>
        <p:spPr>
          <a:xfrm>
            <a:off x="5148360" y="2060640"/>
            <a:ext cx="123804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1" descr="http://go.mail.ru/imgpreview?key=http%3A//poxe.ru/uploads/posts/2010-07/thumbs/1278490490%5Frrrrrrs-ryessryos.jpg&amp;mb=imgdb_preview_293&amp;q=90&amp;w=134"/>
          <p:cNvPicPr/>
          <p:nvPr/>
        </p:nvPicPr>
        <p:blipFill>
          <a:blip r:embed="rId3"/>
          <a:stretch/>
        </p:blipFill>
        <p:spPr>
          <a:xfrm>
            <a:off x="1692360" y="3645000"/>
            <a:ext cx="127620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http://go.mail.ru/imgpreview?key=http%3A//katyaburg.ru/sites/default/files/pictures/zabavnie%5Fjivotnie/zmei%5Fkobra%5Ffoto%5F01.jpg&amp;mb=imgdb_preview_133&amp;q=90&amp;w=113"/>
          <p:cNvPicPr/>
          <p:nvPr/>
        </p:nvPicPr>
        <p:blipFill>
          <a:blip r:embed="rId4"/>
          <a:stretch/>
        </p:blipFill>
        <p:spPr>
          <a:xfrm>
            <a:off x="7812000" y="4508640"/>
            <a:ext cx="1076400" cy="952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http://go.mail.ru/imgpreview?key=http%3A//poxe.ru/uploads/posts/2010-07/1278490516%5Frsrsrrs-ryerrsr.jpg&amp;mb=imgdb_preview_293&amp;q=90&amp;w=130"/>
          <p:cNvPicPr/>
          <p:nvPr/>
        </p:nvPicPr>
        <p:blipFill>
          <a:blip r:embed="rId5"/>
          <a:stretch/>
        </p:blipFill>
        <p:spPr>
          <a:xfrm>
            <a:off x="539640" y="5229360"/>
            <a:ext cx="1238400" cy="952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1" descr="http://go.mail.ru/imgpreview?key=http%3A//poxe.ru/uploads/posts/2010-07/thumbs/1278490490%5Frrrrrrs-ryessryos.jpg&amp;mb=imgdb_preview_293&amp;q=90&amp;w=134"/>
          <p:cNvPicPr/>
          <p:nvPr/>
        </p:nvPicPr>
        <p:blipFill>
          <a:blip r:embed="rId6"/>
          <a:stretch/>
        </p:blipFill>
        <p:spPr>
          <a:xfrm>
            <a:off x="7596360" y="260280"/>
            <a:ext cx="1276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одсказ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7705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6  9  3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ОДВЕДЕМ ИТОГ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ЖЕ  ВОЙДЕТ В СОКРОВИЩНИЦ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КРОВИЩ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fort boyard.mp3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tigr03"/>
          <p:cNvPicPr/>
          <p:nvPr/>
        </p:nvPicPr>
        <p:blipFill>
          <a:blip r:embed="rId2"/>
          <a:stretch/>
        </p:blipFill>
        <p:spPr>
          <a:xfrm>
            <a:off x="971640" y="1341360"/>
            <a:ext cx="6808680" cy="511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рештка2"/>
          <p:cNvPicPr/>
          <p:nvPr/>
        </p:nvPicPr>
        <p:blipFill>
          <a:blip r:embed="rId3"/>
          <a:stretch/>
        </p:blipFill>
        <p:spPr>
          <a:xfrm>
            <a:off x="-612720" y="-6004080"/>
            <a:ext cx="1061244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fort boyard.mp3" descr=""/>
          <p:cNvPicPr/>
          <p:nvPr/>
        </p:nvPicPr>
        <p:blipFill>
          <a:blip r:embed="rId4"/>
          <a:stretch/>
        </p:blipFill>
        <p:spPr>
          <a:xfrm>
            <a:off x="8893080" y="6607080"/>
            <a:ext cx="25092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15329 L 0.00261 0.87445 E">
                                      <p:cBhvr>
                                        <p:cTn id="157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БЕДИТЕЛЕЙ ЖДЁТ  СОКРОВИЩНИ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fot4b"/>
          <p:cNvPicPr/>
          <p:nvPr/>
        </p:nvPicPr>
        <p:blipFill>
          <a:blip r:embed="rId1"/>
          <a:stretch/>
        </p:blipFill>
        <p:spPr>
          <a:xfrm>
            <a:off x="1357200" y="1928880"/>
            <a:ext cx="6772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КАЗ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Применение знаний, отработка у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2)… - мать 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рештка2"/>
          <p:cNvPicPr/>
          <p:nvPr/>
        </p:nvPicPr>
        <p:blipFill>
          <a:blip r:embed="rId2"/>
          <a:stretch/>
        </p:blipFill>
        <p:spPr>
          <a:xfrm>
            <a:off x="-324000" y="0"/>
            <a:ext cx="10692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fort boyard.mp3" descr=""/>
          <p:cNvPicPr/>
          <p:nvPr/>
        </p:nvPicPr>
        <p:blipFill>
          <a:blip r:embed="rId3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96532E-006 L -0.00191 -0.5348 E">
                                      <p:cBhvr>
                                        <p:cTn id="19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ЗДРАВЛЯЕМ ПОБЕДИТЕЛЕЙ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6" descr="6"/>
          <p:cNvPicPr/>
          <p:nvPr/>
        </p:nvPicPr>
        <p:blipFill>
          <a:blip r:embed="rId1"/>
          <a:stretch/>
        </p:blipFill>
        <p:spPr>
          <a:xfrm>
            <a:off x="1547640" y="1924200"/>
            <a:ext cx="6264360" cy="4698720"/>
          </a:xfrm>
          <a:prstGeom prst="rect">
            <a:avLst/>
          </a:prstGeom>
          <a:ln w="0">
            <a:noFill/>
          </a:ln>
        </p:spPr>
      </p:pic>
      <p:pic>
        <p:nvPicPr>
          <p:cNvPr id="223" name="j0212652.wav" descr=""/>
          <p:cNvPicPr/>
          <p:nvPr/>
        </p:nvPicPr>
        <p:blipFill>
          <a:blip r:embed="rId2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25" name="fort boyard.mp3" descr=""/>
          <p:cNvPicPr/>
          <p:nvPr/>
        </p:nvPicPr>
        <p:blipFill>
          <a:blip r:embed="rId2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 выполнивших задание -ПЛЕ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92" descr="fot1b"/>
          <p:cNvPicPr/>
          <p:nvPr/>
        </p:nvPicPr>
        <p:blipFill>
          <a:blip r:embed="rId1"/>
          <a:stretch/>
        </p:blipFill>
        <p:spPr>
          <a:xfrm>
            <a:off x="1476360" y="2205000"/>
            <a:ext cx="57596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66"/>
                </a:solidFill>
                <a:latin typeface="Tahoma"/>
              </a:rPr>
              <a:t>ВОПРОС задает старец ФУ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fot2b"/>
          <p:cNvPicPr/>
          <p:nvPr/>
        </p:nvPicPr>
        <p:blipFill>
          <a:blip r:embed="rId1"/>
          <a:stretch/>
        </p:blipFill>
        <p:spPr>
          <a:xfrm>
            <a:off x="1476360" y="1989000"/>
            <a:ext cx="61419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огичесая разм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всего прямоугольников изображено на чертеже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8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95280" y="3860640"/>
          <a:ext cx="8280360" cy="1584360"/>
        </p:xfrm>
        <a:graphic>
          <a:graphicData uri="http://schemas.openxmlformats.org/drawingml/2006/table">
            <a:tbl>
              <a:tblPr/>
              <a:tblGrid>
                <a:gridCol w="2705040"/>
                <a:gridCol w="2705040"/>
                <a:gridCol w="287028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br>
              <a:rPr sz="4400"/>
            </a:b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6</a:t>
            </a:r>
            <a:br>
              <a:rPr sz="4400"/>
            </a:b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4</a:t>
            </a:r>
            <a:br>
              <a:rPr sz="4400"/>
            </a:b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br>
              <a:rPr sz="4400"/>
            </a:b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Ответ неверный!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Подумай хорошеньк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2924280"/>
          <a:ext cx="8208720" cy="2016000"/>
        </p:xfrm>
        <a:graphic>
          <a:graphicData uri="http://schemas.openxmlformats.org/drawingml/2006/table">
            <a:tbl>
              <a:tblPr/>
              <a:tblGrid>
                <a:gridCol w="2565360"/>
                <a:gridCol w="2906640"/>
                <a:gridCol w="2736720"/>
              </a:tblGrid>
              <a:tr h="2016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</a:t>
                      </a:r>
                      <a:endParaRPr b="0" lang="en-US" sz="9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45:13Z</dcterms:created>
  <dc:creator>Василькова О.И.</dc:creator>
  <dc:description/>
  <dc:language>en-US</dc:language>
  <cp:lastModifiedBy>Учитель</cp:lastModifiedBy>
  <dcterms:modified xsi:type="dcterms:W3CDTF">2013-11-08T05:37:56Z</dcterms:modified>
  <cp:revision>66</cp:revision>
  <dc:subject/>
  <dc:title>Слайд 1</dc:title>
</cp:coreProperties>
</file>